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24770-DD5E-40FC-AFA7-C1AE28F7ECDB}" type="slidenum">
              <a:rPr b="0" lang="de-DE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323AE-54F4-4841-BFEE-201D809EB9A4}" type="slidenum">
              <a:rPr b="0" lang="de-DE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A197-D2BA-4DF2-A1B3-599E6D292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8812-25E4-42AC-9866-5EF5C7546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78AE-A333-49E8-B0D1-6149A5F62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0BFA-E37F-407C-993D-BEE568C0F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A3FA-0350-417A-8AC5-43AFB2BCF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1D2B-0D28-42B7-9FBF-C7F1B2D7F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5B0B-62A7-402D-A5DD-9598D978D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6FC1-E52B-4475-B183-A41124250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5583-177D-4127-B93F-A6D634D3E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B953-8DA2-4487-829C-7FF57EF90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3F65-FD3F-45BB-B5A0-858736568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93F4-C4CA-4E46-92E4-28A142B43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EBCCE-9D64-4636-A8FB-168284E0D28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kndchita.ru/" TargetMode="External"/><Relationship Id="rId2" Type="http://schemas.openxmlformats.org/officeDocument/2006/relationships/hyperlink" Target="http://www.kndchita.ru/" TargetMode="External"/><Relationship Id="rId3" Type="http://schemas.openxmlformats.org/officeDocument/2006/relationships/hyperlink" Target="http://www.kndchita.ru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4821120" y="5122800"/>
            <a:ext cx="432288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.А. Бут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меститель главного врач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 ОМР ГАУЗ «Забайкальский краевой наркологический диспансер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1"/>
          <p:cNvSpPr/>
          <p:nvPr/>
        </p:nvSpPr>
        <p:spPr>
          <a:xfrm>
            <a:off x="264960" y="1720800"/>
            <a:ext cx="8520120" cy="41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712800" y="1915560"/>
            <a:ext cx="7862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5" descr="i?id=276645700-65-72&amp;n=21"/>
          <p:cNvPicPr/>
          <p:nvPr/>
        </p:nvPicPr>
        <p:blipFill>
          <a:blip r:embed="rId1"/>
          <a:stretch/>
        </p:blipFill>
        <p:spPr>
          <a:xfrm>
            <a:off x="441360" y="264960"/>
            <a:ext cx="1119240" cy="103356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1"/>
          <p:cNvSpPr/>
          <p:nvPr/>
        </p:nvSpPr>
        <p:spPr>
          <a:xfrm>
            <a:off x="264960" y="1219320"/>
            <a:ext cx="85201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Отчет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по формам федерального статистического наблюдения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№ </a:t>
            </a:r>
            <a:r>
              <a:rPr b="1" lang="ru-RU" sz="4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37 и № 1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5920" y="233280"/>
            <a:ext cx="8229600" cy="13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Бланки форм № 11 и № 37 за отчетный 2019 год остаются без измен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42560" y="1600200"/>
            <a:ext cx="8715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ы ФСН утверждены приказом Росст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№ 410 от 16.10.2013 г. (формы № 11 и № 37). Минздрав России поставил задачу разработки новой формы, которая в большей степени соответствует российской и мировой наркологической ситуац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 новой формы был разослан во все субъекты России для ознакомления и обсужд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астоящее время изучаются и анализируются все предложения и дополнения, полученные от субъек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1CB1B-02D5-417B-AC90-4985222E8C8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Нижний колонтитул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79440" y="1609560"/>
            <a:ext cx="8229600" cy="229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11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ежтабличные и межформенные проверки в 2019 году остаются без измене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28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747440"/>
            <a:ext cx="8350200" cy="412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тат. формы № 11 и № 37 в 2 экз., подписанные руководителем, с печатью, проштампованные в МЗ в отделе статисти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ф. № 30 (разделы «штаты, кадры», «посещения», «мед. освидетельствование»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ф. № 1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план работы наркологической службы района на 2020 год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конъюнктурный отчет за 2019 го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9B716-3A19-4E57-8CC3-850B76EE140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Нижний колонтитул 6"/>
          <p:cNvSpPr/>
          <p:nvPr/>
        </p:nvSpPr>
        <p:spPr>
          <a:xfrm>
            <a:off x="317196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457200" y="361800"/>
            <a:ext cx="8229600" cy="11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457200" y="0"/>
            <a:ext cx="8229600" cy="15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 сдаче годового отчета име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Прямоугольник 1"/>
          <p:cNvSpPr/>
          <p:nvPr/>
        </p:nvSpPr>
        <p:spPr>
          <a:xfrm>
            <a:off x="0" y="0"/>
            <a:ext cx="9144000" cy="24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f0000"/>
                </a:solidFill>
                <a:latin typeface="Arial"/>
              </a:rPr>
              <a:t> </a:t>
            </a:r>
            <a:r>
              <a:rPr b="1" i="1" lang="ru-RU" sz="4800" spc="-1" strike="noStrike">
                <a:solidFill>
                  <a:srgbClr val="bf0000"/>
                </a:solidFill>
                <a:latin typeface="Arial"/>
              </a:rPr>
              <a:t>Контакты:</a:t>
            </a:r>
            <a:r>
              <a:rPr b="1" lang="ru-RU" sz="4800" spc="-1" strike="noStrike">
                <a:solidFill>
                  <a:srgbClr val="bf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mail: OMR-KND@yandex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л. 41-64-4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2"/>
          <p:cNvSpPr/>
          <p:nvPr/>
        </p:nvSpPr>
        <p:spPr>
          <a:xfrm>
            <a:off x="0" y="2619360"/>
            <a:ext cx="9144000" cy="39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ru-RU" sz="4800" spc="-1" strike="noStrike">
                <a:solidFill>
                  <a:srgbClr val="bf0000"/>
                </a:solidFill>
                <a:latin typeface="Arial"/>
              </a:rPr>
              <a:t>Официальный сайт</a:t>
            </a:r>
            <a:br>
              <a:rPr sz="4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ГАУЗ «Забайкальский краевой наркологический диспансер»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knd</a:t>
            </a: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hita</a:t>
            </a:r>
            <a:r>
              <a:rPr b="0" lang="fr-FR" sz="4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.r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Прямоугольник 1"/>
          <p:cNvSpPr/>
          <p:nvPr/>
        </p:nvSpPr>
        <p:spPr>
          <a:xfrm>
            <a:off x="528480" y="961920"/>
            <a:ext cx="7990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bf0000"/>
                </a:solidFill>
                <a:latin typeface="Times New Roman"/>
              </a:rPr>
              <a:t>Спасибо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bf0000"/>
                </a:solidFill>
                <a:latin typeface="Times New Roman"/>
              </a:rPr>
              <a:t>за внимание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bolnica"/>
          <p:cNvPicPr/>
          <p:nvPr/>
        </p:nvPicPr>
        <p:blipFill>
          <a:blip r:embed="rId1"/>
          <a:stretch/>
        </p:blipFill>
        <p:spPr>
          <a:xfrm>
            <a:off x="2759040" y="3930480"/>
            <a:ext cx="3575160" cy="25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7T23:54:21Z</dcterms:created>
  <dc:creator/>
  <dc:description>PresentationLoad.com</dc:description>
  <dc:language>en-US</dc:language>
  <cp:lastModifiedBy>Елена</cp:lastModifiedBy>
  <dcterms:modified xsi:type="dcterms:W3CDTF">2019-12-18T07:34:14Z</dcterms:modified>
  <cp:revision>210</cp:revision>
  <dc:subject/>
  <dc:title>PowerPoint Template</dc:title>
</cp:coreProperties>
</file>